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453-C93B-4635-8B31-9D060C51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0C0-EA64-4221-81B7-B1DE5322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523-356F-4687-8C0F-7B71014B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9FC-00DE-482D-B269-D4A935B2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77B-3B32-41E9-999C-AE8AC01A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B75-47B7-421D-A31A-E8AF49A8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E19-71EA-4B3D-AFA2-28E2EDA3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1B3-297A-4CBE-BE5A-C91E3ED1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C87-8559-4383-B5D3-1927602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FA8-CAA4-4577-8C38-43067625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BC9-608A-4D42-A40F-D8E1F02D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255-38BA-4F96-A122-0F5691C4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C83F-5C8A-47B5-8558-B8F1BF4C9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shea Robins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16:01:55Z</dcterms:modified>
  <cp:revision>91</cp:revision>
  <dc:subject/>
  <dc:title>Ancient Greece</dc:title>
</cp:coreProperties>
</file>